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022-53D5-410B-B877-3E272950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847-520D-4572-B0A2-6C76AEF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3AD-F0C3-4736-9BBC-BE96AA7D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0FB-26D5-442E-831E-D1AD1B79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201-7546-48BC-A715-A96A77C3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9FA-CC89-4FCA-BA50-BE81EE8D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1FF-9EBE-4C63-9A63-700FC2E2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85D-BEFA-4B09-9A3D-F130F41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2C7-A956-4477-BB95-F104EFA1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E62-692C-45BB-8E41-7E2E7DD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59F-484C-4EBC-985D-971DD8E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E5B-5A74-434A-8716-CC7C483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AA9-9480-4E57-89EC-B9B76A8ED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The class is mak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joeHand 2"/>
              </a:rPr>
              <a:t>silly noi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joeHand 2"/>
              </a:rPr>
              <a:t>Tapping, squeaky shoes, animal sounds, farting imitation, whistling, popping, clicking pen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lass is making silly no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joeHand 2"/>
              </a:rPr>
              <a:t>Author’s Advice</a:t>
            </a:r>
            <a:r>
              <a:rPr b="1" lang="en-US" sz="3600" spc="-1" strike="noStrike">
                <a:solidFill>
                  <a:srgbClr val="ffffff"/>
                </a:solidFill>
                <a:latin typeface="joeHand 2"/>
              </a:rPr>
              <a:t>: Remain friendly, avoid raising your vo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Gentle Repri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Light Re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Assertive I-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Threat, using peer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joeHand 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joeHand 2"/>
              </a:rPr>
              <a:t>Embarrass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alibri"/>
              </a:rPr>
              <a:t>Students are talking while you are talking or while other students are sharing out answ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Talking when teacher is tal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aise your voice and say “I need you to be quie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wer you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p teaching and stand sil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reaten to give ho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ention staying af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cus on one tal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What Would You D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A student refuses to obey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Leaves the room without permission, won’t leave the room, won’t start working, stop talking, move to another seat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Student refuses to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obey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Suggestions from the Author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alk to the student’s desk and quietly explain the problem and tell the student you will talk to him/her after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Write or type out a short statement to an administrator about the situation (or a referral), show the note to the student and state that you will destroy the note if the student compl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Try not to show that the student’s behavior is bothering yo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llow the student to save face and keep his/her dignity. Avoid an audience, speak in a whisper. Avoid making it into a big iss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4:16:15Z</dcterms:created>
  <dc:creator>ccps</dc:creator>
  <dc:description/>
  <cp:keywords/>
  <dc:language>en-US</dc:language>
  <cp:lastModifiedBy>ccps</cp:lastModifiedBy>
  <dcterms:modified xsi:type="dcterms:W3CDTF">2011-03-30T17:11:37Z</dcterms:modified>
  <cp:revision>3</cp:revision>
  <dc:subject/>
  <dc:title>What Would You D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78837</vt:lpwstr>
  </property>
</Properties>
</file>